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B02-1EA8-4649-999C-B5869703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9B4-BC2A-4B52-A151-0B8F6864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43C-6A5B-4751-97B3-557436D4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42D-3E97-4920-B44B-959F094E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FC5AC-A295-4640-93E5-14C10E0C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28869-B3ED-4CE1-866C-EFB7EF89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19E46-B773-4B3D-A5F1-C77B9247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58B3B-5205-4740-992E-FE2B958B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0C214-050A-49C8-BD5E-704C5264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D418B-009F-4DFF-AF92-CE7ABA5B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C5E11-D840-4453-9A46-0CDBA64A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13E-0C91-40ED-8490-78359C49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22A08-51CD-4185-81C2-1C4599DF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2FAF5-57EC-472E-9C15-FCC970D8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F21AA-89BF-4DA8-BD27-C41A5C43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C949B-F322-434B-8240-4056E9D3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C1C91-0815-4254-9639-D84612C1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FAD-3399-4BAA-B758-F036579E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F13-329E-4F6A-B5C5-0C0E6413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5D1-63A7-4E62-ABD8-149D6148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8E5-A090-479E-965E-C066B284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4E6-2AD9-49F7-88C6-B739F97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5F0-9716-40B8-8970-68165FAA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BE8-9BE8-447C-A148-294B9712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34A3-1F0B-4C62-BB8C-5C9392648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ED0B-FD6B-4782-B815-DE5B49A9CA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rofessionalism in the workplac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students participating in the Shadowing Extern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91960"/>
            <a:ext cx="8305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andatory: Copy and paste into a word document.  Print , sign and return to SC 13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95680"/>
          </a:xfrm>
          <a:prstGeom prst="rect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fessionalism Workshop Contr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____________________________ clearly understand the terms and conditions of the Professionalism Workshop and will act accordingly during my shadowing Externship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What is professionalis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et of internalized character strengths and values directed toward high quality service to others through one’s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ner-str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nd jud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-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savv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ure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 solving perseve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genu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a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ll-groo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er at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eans, shorts, revealing tops, sleeveless tops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ys: slacks and polo/button-down shi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dies: slacks, skirts (knees or bel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fortable closed toe dress shoes (no sneakers or sanda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ubs may be ok, ask the Health care profes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lid color, matching top and bot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f-Resp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onscious that your work reflects your inner charac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view it as just “a job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task-oriented and service-orie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ect the exper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from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yourself and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k out adv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onal Responsi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 others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boundaries/lim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meddle in others aff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goss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handle personal interests at “wor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drinking on the “job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foul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exual hara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off cell phones and pa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-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 UP ON TIME (Be Punctu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ve enough time for traf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ive ea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 immediately if you cannot make-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efficient use of resources and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n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t all dead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lephone etiquet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ak with a normal, pleasant, courteous v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your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ve brief, clear mess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 phone calls promp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ersonal c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fidenti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atients, cases and files are to be kept strictly confidential if you have 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discuss patient status/well-being with others (friends, family, etc), especially at the health care fac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 ask about the confidentiality policies within the fac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discuss/reveal any diagnosis with the patients or family members…YOU ARE NOT THE HEALTH CARE PROVID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3:37:38Z</dcterms:created>
  <dc:creator>sgoldste</dc:creator>
  <dc:description/>
  <dc:language>en-US</dc:language>
  <cp:lastModifiedBy>Mike Niehoff</cp:lastModifiedBy>
  <dcterms:modified xsi:type="dcterms:W3CDTF">2009-07-07T01:16:07Z</dcterms:modified>
  <cp:revision>6</cp:revision>
  <dc:subject/>
  <dc:title>Professionalism in the workplace</dc:title>
</cp:coreProperties>
</file>